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3.jpeg" ContentType="image/jpeg"/>
  <Override PartName="/ppt/media/image28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37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4.jpeg" ContentType="image/jpeg"/>
  <Override PartName="/ppt/media/image38.wmf" ContentType="image/x-wmf"/>
  <Override PartName="/ppt/media/image52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0.wmf" ContentType="image/x-wmf"/>
  <Override PartName="/ppt/media/image13.wmf" ContentType="image/x-wmf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7.jpeg" ContentType="image/jpeg"/>
  <Override PartName="/ppt/media/image3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75463" cy="90392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E4F-AF3E-46F1-9805-EFE7F3E5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6188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4160" y="5225040"/>
            <a:ext cx="6188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416-B746-4CFF-AAE7-74B0A45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504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4160" y="522504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15040" y="522504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7F0-750F-45A4-9186-4F3E8237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6480" y="210960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28800" y="210960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4160" y="522504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6480" y="522504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28800" y="5225040"/>
            <a:ext cx="19922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0E4-DF02-4DFC-B0AF-2CE43C2D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4160" y="2109600"/>
            <a:ext cx="6188040" cy="59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A5E-6271-4C6D-A222-36F12AE5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618804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D8D-9260-46EE-A0F3-DBC357C4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301968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5040" y="2109600"/>
            <a:ext cx="301968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C0A-3F0B-4CC4-A2D3-14E02C9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DBF-8FA1-4F5A-8F3B-E74D396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4160" y="360000"/>
            <a:ext cx="618804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0E2-F32F-433A-99D1-96FF1419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15040" y="2109600"/>
            <a:ext cx="301968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4160" y="522504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C26-F387-4175-AF3B-7C75F4D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301968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1504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15040" y="522504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14B-C0C7-4143-956F-5FBFCB3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416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15040" y="2109600"/>
            <a:ext cx="30196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4160" y="5225040"/>
            <a:ext cx="6188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0CF-3FF1-452F-9B68-7401533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4160" y="360000"/>
            <a:ext cx="618804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4160" y="2109600"/>
            <a:ext cx="6188040" cy="59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520" y="8375760"/>
            <a:ext cx="160344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9000" y="8375760"/>
            <a:ext cx="2178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29120" y="8375760"/>
            <a:ext cx="160344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697F-033E-45F9-9128-4C4D6FE8D72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438360" cy="2359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"/>
          <p:cNvPicPr/>
          <p:nvPr/>
        </p:nvPicPr>
        <p:blipFill>
          <a:blip r:embed="rId2"/>
          <a:stretch/>
        </p:blipFill>
        <p:spPr>
          <a:xfrm>
            <a:off x="0" y="2322360"/>
            <a:ext cx="3438360" cy="2268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3"/>
          <a:stretch/>
        </p:blipFill>
        <p:spPr>
          <a:xfrm>
            <a:off x="3438360" y="0"/>
            <a:ext cx="3438720" cy="2322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4"/>
          <a:stretch/>
        </p:blipFill>
        <p:spPr>
          <a:xfrm>
            <a:off x="3438360" y="2308320"/>
            <a:ext cx="3438720" cy="22827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"/>
          <p:cNvPicPr/>
          <p:nvPr/>
        </p:nvPicPr>
        <p:blipFill>
          <a:blip r:embed="rId5"/>
          <a:stretch/>
        </p:blipFill>
        <p:spPr>
          <a:xfrm>
            <a:off x="3240" y="4564080"/>
            <a:ext cx="343836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"/>
          <p:cNvPicPr/>
          <p:nvPr/>
        </p:nvPicPr>
        <p:blipFill>
          <a:blip r:embed="rId6"/>
          <a:stretch/>
        </p:blipFill>
        <p:spPr>
          <a:xfrm>
            <a:off x="3438360" y="4557600"/>
            <a:ext cx="343872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7"/>
          <a:stretch/>
        </p:blipFill>
        <p:spPr>
          <a:xfrm>
            <a:off x="-71280" y="7039080"/>
            <a:ext cx="3512880" cy="19987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3438360" y="7039080"/>
            <a:ext cx="3438720" cy="1998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1"/>
          <p:cNvSpPr/>
          <p:nvPr/>
        </p:nvSpPr>
        <p:spPr>
          <a:xfrm>
            <a:off x="198360" y="1351080"/>
            <a:ext cx="6480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юджет 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тюковичского района на 2018 год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77720" y="919080"/>
            <a:ext cx="5924520" cy="811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77720" y="343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485640"/>
            <a:ext cx="6877080" cy="8552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4734000" y="343080"/>
            <a:ext cx="214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 образ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е сады – 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– 1040 челов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коррекционно-развивающе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еабилитации –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челов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 - 1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щихся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2 челов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98360" y="414360"/>
            <a:ext cx="655344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1" descr=""/>
          <p:cNvPicPr/>
          <p:nvPr/>
        </p:nvPicPr>
        <p:blipFill>
          <a:blip r:embed="rId2"/>
          <a:srcRect l="0" t="-22640" r="0" b="-22603"/>
          <a:stretch/>
        </p:blipFill>
        <p:spPr>
          <a:xfrm>
            <a:off x="198360" y="1638360"/>
            <a:ext cx="66787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198360" y="4446720"/>
            <a:ext cx="6573960" cy="449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477720" y="0"/>
            <a:ext cx="5924520" cy="34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98360" y="414360"/>
            <a:ext cx="6264360" cy="820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01760" y="414360"/>
            <a:ext cx="6276960" cy="8137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77720" y="485640"/>
            <a:ext cx="612936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43080" y="343080"/>
            <a:ext cx="6335640" cy="856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01760" y="441360"/>
            <a:ext cx="6273720" cy="820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06520" y="343080"/>
            <a:ext cx="6200640" cy="836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58720" y="343080"/>
            <a:ext cx="6127920" cy="849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77720" y="0"/>
            <a:ext cx="5924520" cy="2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354480"/>
          <a:ext cx="6077160" cy="3475080"/>
        </p:xfrm>
        <a:graphic>
          <a:graphicData uri="http://schemas.openxmlformats.org/drawingml/2006/table">
            <a:tbl>
              <a:tblPr/>
              <a:tblGrid>
                <a:gridCol w="5672160"/>
                <a:gridCol w="4050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гл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ление…………………………………………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бюджетная система Республики Беларусь……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-2018………………………………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юковичский район в цифрах…………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олидированный бюджет Костюковичского района на  2018 год………………………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бюджет на 2018 год……………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ы сельских Советов на 2018 год………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1"/>
          <p:cNvSpPr/>
          <p:nvPr/>
        </p:nvSpPr>
        <p:spPr>
          <a:xfrm>
            <a:off x="399960" y="3354480"/>
            <a:ext cx="68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77720" y="414360"/>
            <a:ext cx="605628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77720" y="414360"/>
            <a:ext cx="5924520" cy="830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43080" y="414360"/>
            <a:ext cx="6264000" cy="842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77720" y="619200"/>
            <a:ext cx="6056280" cy="784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8520" y="558720"/>
            <a:ext cx="6280200" cy="820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477720" y="54000"/>
            <a:ext cx="592452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77720" y="558720"/>
            <a:ext cx="5985000" cy="709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77720" y="558720"/>
            <a:ext cx="5924520" cy="568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477720" y="19836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3080" y="701640"/>
            <a:ext cx="6264000" cy="741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77720" y="270000"/>
            <a:ext cx="5924520" cy="28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30360" y="3351240"/>
            <a:ext cx="5924520" cy="17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" descr=""/>
          <p:cNvPicPr/>
          <p:nvPr/>
        </p:nvPicPr>
        <p:blipFill>
          <a:blip r:embed="rId1"/>
          <a:stretch/>
        </p:blipFill>
        <p:spPr>
          <a:xfrm>
            <a:off x="477720" y="558720"/>
            <a:ext cx="6056280" cy="832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"/>
          <p:cNvPicPr/>
          <p:nvPr/>
        </p:nvPicPr>
        <p:blipFill>
          <a:blip r:embed="rId2"/>
          <a:stretch/>
        </p:blipFill>
        <p:spPr>
          <a:xfrm>
            <a:off x="477720" y="198360"/>
            <a:ext cx="605628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0720" y="558720"/>
            <a:ext cx="6156360" cy="828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8500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"/>
          <p:cNvPicPr/>
          <p:nvPr/>
        </p:nvPicPr>
        <p:blipFill>
          <a:blip r:embed="rId1"/>
          <a:stretch/>
        </p:blipFill>
        <p:spPr>
          <a:xfrm>
            <a:off x="266760" y="485640"/>
            <a:ext cx="6485040" cy="855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2"/>
          <a:stretch/>
        </p:blipFill>
        <p:spPr>
          <a:xfrm>
            <a:off x="343080" y="54000"/>
            <a:ext cx="605916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77720" y="558720"/>
            <a:ext cx="6129360" cy="828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77720" y="701640"/>
            <a:ext cx="59245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6"/>
          <p:cNvGrpSpPr/>
          <p:nvPr/>
        </p:nvGrpSpPr>
        <p:grpSpPr>
          <a:xfrm>
            <a:off x="477720" y="270000"/>
            <a:ext cx="5924520" cy="306720"/>
            <a:chOff x="477720" y="270000"/>
            <a:chExt cx="5924520" cy="306720"/>
          </a:xfrm>
        </p:grpSpPr>
        <p:sp>
          <p:nvSpPr>
            <p:cNvPr id="66" name="AutoShape 5"/>
            <p:cNvSpPr/>
            <p:nvPr/>
          </p:nvSpPr>
          <p:spPr>
            <a:xfrm>
              <a:off x="477720" y="270000"/>
              <a:ext cx="5924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3502080" y="271440"/>
              <a:ext cx="64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477720" y="198360"/>
            <a:ext cx="605628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98520" y="485640"/>
            <a:ext cx="6280200" cy="820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77720" y="127080"/>
            <a:ext cx="59245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44:53Z</dcterms:created>
  <dc:creator>admin</dc:creator>
  <dc:description/>
  <dc:language>en-US</dc:language>
  <cp:lastModifiedBy>Казакова Светлана</cp:lastModifiedBy>
  <cp:lastPrinted>2016-04-29T06:03:34Z</cp:lastPrinted>
  <dcterms:modified xsi:type="dcterms:W3CDTF">2018-05-07T14:22:55Z</dcterms:modified>
  <cp:revision>322</cp:revision>
  <dc:subject/>
  <dc:title>Слайд 1</dc:title>
</cp:coreProperties>
</file>