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039225" cy="68754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44120"/>
            <a:ext cx="48927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CF8-4AB6-4A9D-B819-35391159B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52560" y="744480"/>
            <a:ext cx="4892760" cy="37227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F10-163B-4911-B94A-E05B38732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994-F851-4192-8D6B-D9DFA27F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160" y="39754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099-6282-44D3-97E8-13E3D8D4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D07-97B7-4E41-873C-16766223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220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224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16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220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224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678-5340-4677-AD2B-B4490F7D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5B7-7520-4957-A36E-77258F7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9CB-0477-481F-A13A-0DCECE4D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692-BEC7-4204-A417-A00C2BA4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0DB-887C-4B8A-9E04-B9F2E01D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60" y="274680"/>
            <a:ext cx="813276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6E1-B0BF-414D-A504-7A54991F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1FF-0344-4AAB-B4AB-3D444BE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17B-A242-4C5A-A8CB-750346B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A9C-47EB-4E44-9FA6-ABD08B0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2520" y="6373440"/>
            <a:ext cx="2108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360" y="6373440"/>
            <a:ext cx="2862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73440"/>
            <a:ext cx="2108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524-3539-46EA-889A-3F3DA8B8698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136000" cy="59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н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юджет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юковичского район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тал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19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379440" y="270000"/>
            <a:ext cx="8658360" cy="602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77920"/>
            <a:ext cx="82436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ение доходной части бюджета Костюковичского райо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  1 полугод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2018 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ыс.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0000" y="1566720"/>
          <a:ext cx="7993080" cy="4780080"/>
        </p:xfrm>
        <a:graphic>
          <a:graphicData uri="http://schemas.openxmlformats.org/drawingml/2006/table">
            <a:tbl>
              <a:tblPr/>
              <a:tblGrid>
                <a:gridCol w="2266920"/>
                <a:gridCol w="1371600"/>
                <a:gridCol w="1371600"/>
                <a:gridCol w="1312920"/>
                <a:gridCol w="1670040"/>
              </a:tblGrid>
              <a:tr h="9464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ход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вержденный план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  за  1 полугодие 2018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 годовому уточненному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оход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6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6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08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добавленную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6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6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33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и на соб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5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5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6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ые 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2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23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енсация расходов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чие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3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33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44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44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84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536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923760"/>
          <a:ext cx="8685360" cy="5856480"/>
        </p:xfrm>
        <a:graphic>
          <a:graphicData uri="http://schemas.openxmlformats.org/drawingml/2006/table">
            <a:tbl>
              <a:tblPr/>
              <a:tblGrid>
                <a:gridCol w="2470320"/>
                <a:gridCol w="1722240"/>
                <a:gridCol w="1646280"/>
                <a:gridCol w="1384560"/>
                <a:gridCol w="1461960"/>
              </a:tblGrid>
              <a:tr h="12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разде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вержденный план на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 1  полугодие 2018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уточн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му год.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егосударствен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81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77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37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дебная  власть, правоохранительная деятельность и обеспечение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рана  окружающей 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ищно-коммунальные услуги и жилищное 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4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15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42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3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3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8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ая  культура, спорт, культура и  средства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8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8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40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42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2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7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4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3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30"/>
          <p:cNvSpPr/>
          <p:nvPr/>
        </p:nvSpPr>
        <p:spPr>
          <a:xfrm>
            <a:off x="176040" y="0"/>
            <a:ext cx="86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полнение расходной части бюджета Костюковичского райо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  1 полугодие  2018 года.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тыс.руб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0" y="-50760"/>
            <a:ext cx="8785080" cy="664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4" descr=""/>
          <p:cNvPicPr/>
          <p:nvPr/>
        </p:nvPicPr>
        <p:blipFill>
          <a:blip r:embed="rId1"/>
          <a:stretch/>
        </p:blipFill>
        <p:spPr>
          <a:xfrm>
            <a:off x="0" y="-50760"/>
            <a:ext cx="8785080" cy="664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олженность по штрафным санкциям за несвоевременный возврат бюджетных ссуд за 1 полугодие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2018 год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85640" y="1638360"/>
          <a:ext cx="7632720" cy="4097160"/>
        </p:xfrm>
        <a:graphic>
          <a:graphicData uri="http://schemas.openxmlformats.org/drawingml/2006/table">
            <a:tbl>
              <a:tblPr/>
              <a:tblGrid>
                <a:gridCol w="2232000"/>
                <a:gridCol w="1297080"/>
                <a:gridCol w="1366920"/>
                <a:gridCol w="1297080"/>
                <a:gridCol w="1439640"/>
              </a:tblGrid>
              <a:tr h="129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-ность на 1.01.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ислено за 1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1 полугодие 201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таток задолжен-ности на 1.04.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елец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Белая Дубро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Мошевое Агр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ФХ «Крапивн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амотевичи Агр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Парижская Слобо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160" y="274320"/>
            <a:ext cx="8242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олженность по основному долгу бюджетных ссуд   за 1 полугод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2018 год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тыс. рублей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4360" y="1998720"/>
            <a:ext cx="81360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7080" y="1603440"/>
          <a:ext cx="8496360" cy="2962080"/>
        </p:xfrm>
        <a:graphic>
          <a:graphicData uri="http://schemas.openxmlformats.org/drawingml/2006/table">
            <a:tbl>
              <a:tblPr/>
              <a:tblGrid>
                <a:gridCol w="1584360"/>
                <a:gridCol w="1152360"/>
                <a:gridCol w="1295280"/>
                <a:gridCol w="1079640"/>
                <a:gridCol w="1224000"/>
                <a:gridCol w="1081080"/>
                <a:gridCol w="1079640"/>
              </a:tblGrid>
              <a:tr h="109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ность на 1.01.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 просрочен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ано 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ность на 1.07. 20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 просроч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елец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амотевичи Агр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44:53Z</dcterms:created>
  <dc:creator>admin</dc:creator>
  <dc:description/>
  <dc:language>en-US</dc:language>
  <cp:lastModifiedBy>Пользователь</cp:lastModifiedBy>
  <cp:lastPrinted>2018-02-19T08:51:19Z</cp:lastPrinted>
  <dcterms:modified xsi:type="dcterms:W3CDTF">2019-06-26T07:14:15Z</dcterms:modified>
  <cp:revision>363</cp:revision>
  <dc:subject/>
  <dc:title>Слайд 1</dc:title>
</cp:coreProperties>
</file>