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039225" cy="68754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52200" y="744120"/>
            <a:ext cx="48927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BEB-C894-4291-ABDB-194C3F2BB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52560" y="744480"/>
            <a:ext cx="489276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B2D0-C892-4E73-87BE-8E14257CD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A0D-E507-44ED-B0F8-FB46CE2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E0D-0FC9-4615-9B51-C262C0C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6EB-9027-4CC3-91F5-101C2836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6952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0864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3040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6952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0864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859-07FD-4D24-B739-B5A6437B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23CC-9E32-4664-ABF8-79DAC233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F24E-8F93-451A-B3C1-F0E8C9C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08AE-AB01-46F8-8D37-8C3C9A7F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0D30-E27C-4ADE-A5BA-835B181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7B3-D453-4E2F-A0C3-EDA5E5CA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71560" y="4384440"/>
            <a:ext cx="6437520" cy="53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1F08-9524-45F8-80C8-70E4022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A88-0914-4CC4-B0EF-671EC17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A18-D8BC-4960-91FD-AB8F5D1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EDED-B666-42D4-809E-76948FF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7714-1D37-492C-AD11-42C27769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6DA-0EFE-4E93-A3BC-85C26A22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1FD0-3067-467E-8F19-36D413BC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6952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0864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3040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6952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0864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6B8-2878-47A0-95EB-753DA491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1DCB-3DF5-4261-8771-1B944659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2F24-94C5-47BE-99D0-E236CD4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C032-0248-4657-BB49-E2BC3D23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0792-6F98-4FB3-B049-E095106D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6FCD-99CE-411C-9544-D0936378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278-CCAC-4063-82EC-9B0383E3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71560" y="4384440"/>
            <a:ext cx="6437520" cy="53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3008-5478-49F2-8C12-73D16A5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ACB95-026D-44CA-8546-60154A4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9A59-B962-4DAC-862F-EC89608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A510-8822-42B6-9D19-767EC75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104B-C59A-47E8-8F25-8A983097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368C-2686-4F66-8EDA-14279B91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6952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0864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3040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6952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0864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7486-2A50-4B1A-A219-DE33ADB1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AD4C-5504-4024-8555-DAFA58E0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77DF5-91E4-421A-A8E9-98A2F78C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390D-1106-48A9-83C6-17790CDE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578-6035-4C2D-9975-DB13F6E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6A794-6549-4FF3-9A70-273CACF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3C7E-ECFE-4A35-8C54-6B74D392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71560" y="4384440"/>
            <a:ext cx="6437520" cy="53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406B-1898-4121-A55D-FEFEAE0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DD7AC-B327-4958-9895-AD7383D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50E7-DDEE-4C47-969E-50CE606B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5622-0F85-4715-82EF-F286D84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F309-29A2-4888-90E2-0965118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11B5-7449-45AD-9399-F098BA33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52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08640" y="73476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3040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52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08640" y="2553840"/>
            <a:ext cx="203688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D0B8-E741-439E-834D-A10389C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892-2F32-475C-A167-0BC9E5E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71560" y="4384440"/>
            <a:ext cx="6437520" cy="53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749-ECFA-4184-8CCB-1BF93CFB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50A-B0D0-42F6-9903-8025692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72200" y="255384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775-FC75-44F1-BB95-29B69E3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04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72200" y="734760"/>
            <a:ext cx="308700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30400" y="2553840"/>
            <a:ext cx="6325920" cy="16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185-6727-4ECA-A644-73E92CF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21360"/>
            <a:ext cx="9040680" cy="1755720"/>
            <a:chOff x="0" y="5121360"/>
            <a:chExt cx="904068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22800"/>
              <a:ext cx="90406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21360"/>
              <a:ext cx="903780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040680" cy="5121360"/>
            <a:chOff x="0" y="0"/>
            <a:chExt cx="904068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037800" cy="51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78200"/>
            <a:ext cx="9037800" cy="229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040680" cy="5121360"/>
            <a:chOff x="0" y="1603440"/>
            <a:chExt cx="9040680" cy="51213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24080" y="2354400"/>
              <a:ext cx="638964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00560" y="6189840"/>
            <a:ext cx="24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2160" y="6189840"/>
            <a:ext cx="33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765240" y="6189840"/>
            <a:ext cx="180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EB4F-A6B6-4ECA-98EC-0A1A43216B18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76840"/>
            <a:ext cx="9040680" cy="3000240"/>
            <a:chOff x="0" y="3876840"/>
            <a:chExt cx="9040680" cy="300024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76840"/>
              <a:ext cx="904068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78280"/>
              <a:ext cx="9037800" cy="29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040680" cy="3876840"/>
            <a:chOff x="0" y="0"/>
            <a:chExt cx="904068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040680" cy="38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037800" cy="38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8960"/>
            <a:ext cx="9037800" cy="229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040680" cy="5121360"/>
            <a:chOff x="0" y="1603440"/>
            <a:chExt cx="9040680" cy="51213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24080" y="2354400"/>
              <a:ext cx="638964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00560" y="6189840"/>
            <a:ext cx="24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2160" y="6189840"/>
            <a:ext cx="33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765240" y="6189840"/>
            <a:ext cx="180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780C-83C4-4F1D-A708-E2DE78DF4031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21360"/>
            <a:ext cx="9040680" cy="1755720"/>
            <a:chOff x="0" y="5121360"/>
            <a:chExt cx="904068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22800"/>
              <a:ext cx="904068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21360"/>
              <a:ext cx="903780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040680" cy="5121360"/>
            <a:chOff x="0" y="0"/>
            <a:chExt cx="904068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037800" cy="51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78200"/>
            <a:ext cx="9037800" cy="229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040680" cy="5121360"/>
            <a:chOff x="0" y="1603440"/>
            <a:chExt cx="9040680" cy="51213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24080" y="2354400"/>
              <a:ext cx="638964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76840"/>
            <a:ext cx="9040680" cy="3000240"/>
            <a:chOff x="0" y="3876840"/>
            <a:chExt cx="9040680" cy="300024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76840"/>
              <a:ext cx="904068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78280"/>
              <a:ext cx="9037800" cy="29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040680" cy="3876840"/>
            <a:chOff x="0" y="0"/>
            <a:chExt cx="904068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040680" cy="38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037800" cy="38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8960"/>
            <a:ext cx="9037800" cy="229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040680" cy="5121360"/>
            <a:chOff x="0" y="1603440"/>
            <a:chExt cx="9040680" cy="512136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24080" y="2354400"/>
              <a:ext cx="638964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00560" y="6189840"/>
            <a:ext cx="24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2160" y="6189840"/>
            <a:ext cx="33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765240" y="6189840"/>
            <a:ext cx="180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1DA-CE1A-4C32-A80A-238FA4A31BC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76840"/>
            <a:ext cx="9040680" cy="3000240"/>
            <a:chOff x="0" y="3876840"/>
            <a:chExt cx="9040680" cy="300024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76840"/>
              <a:ext cx="904068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78280"/>
              <a:ext cx="9037800" cy="29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040680" cy="3876840"/>
            <a:chOff x="0" y="0"/>
            <a:chExt cx="904068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040680" cy="38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037800" cy="38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8960"/>
            <a:ext cx="9037800" cy="229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040680" cy="5121360"/>
            <a:chOff x="0" y="1603440"/>
            <a:chExt cx="9040680" cy="512136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0406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24080" y="2354400"/>
              <a:ext cx="638964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71560" y="4384440"/>
            <a:ext cx="643752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30400" y="734760"/>
            <a:ext cx="6325920" cy="34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00560" y="6189840"/>
            <a:ext cx="24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2160" y="6189840"/>
            <a:ext cx="331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765240" y="6189840"/>
            <a:ext cx="180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D88-2EF7-494F-ADDE-95E8AB901D84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204480" cy="632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4" descr=""/>
          <p:cNvPicPr/>
          <p:nvPr/>
        </p:nvPicPr>
        <p:blipFill>
          <a:blip r:embed="rId1"/>
          <a:stretch/>
        </p:blipFill>
        <p:spPr>
          <a:xfrm>
            <a:off x="270000" y="343080"/>
            <a:ext cx="865800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56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82486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70000" y="1351080"/>
          <a:ext cx="8137440" cy="4700520"/>
        </p:xfrm>
        <a:graphic>
          <a:graphicData uri="http://schemas.openxmlformats.org/drawingml/2006/table">
            <a:tbl>
              <a:tblPr/>
              <a:tblGrid>
                <a:gridCol w="2266920"/>
                <a:gridCol w="1622160"/>
                <a:gridCol w="1368720"/>
                <a:gridCol w="1295280"/>
                <a:gridCol w="1584360"/>
              </a:tblGrid>
              <a:tr h="98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ход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вержденный план 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  за  1 полугодие 201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 годовому уточненн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ход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8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8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445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добавленную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6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и на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2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2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ые 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енсация расходов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9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12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26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5" descr=""/>
          <p:cNvPicPr/>
          <p:nvPr/>
        </p:nvPicPr>
        <p:blipFill>
          <a:blip r:embed="rId1"/>
          <a:stretch/>
        </p:blipFill>
        <p:spPr>
          <a:xfrm>
            <a:off x="0" y="225360"/>
            <a:ext cx="8686800" cy="12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52280" y="701640"/>
          <a:ext cx="8685360" cy="5857920"/>
        </p:xfrm>
        <a:graphic>
          <a:graphicData uri="http://schemas.openxmlformats.org/drawingml/2006/table">
            <a:tbl>
              <a:tblPr/>
              <a:tblGrid>
                <a:gridCol w="2567160"/>
                <a:gridCol w="1625400"/>
                <a:gridCol w="1646280"/>
                <a:gridCol w="1384560"/>
                <a:gridCol w="1461960"/>
              </a:tblGrid>
              <a:tr h="141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разде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вержд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1  полугодие 201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уточнен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государстве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8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3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дебная  власть, правоохранительная деятельность и обеспечение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 окружающей 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ищно-коммунальные услуги и жилищное 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3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2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65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40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5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12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 культура, спорт, культура и 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2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2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9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2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26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 5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 08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6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130"/>
          <p:cNvSpPr/>
          <p:nvPr/>
        </p:nvSpPr>
        <p:spPr>
          <a:xfrm>
            <a:off x="176040" y="0"/>
            <a:ext cx="86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полнение расходной части бюджета Костюкови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 1 полугодие   2019 года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тыс.руб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Object 4" descr=""/>
          <p:cNvPicPr/>
          <p:nvPr/>
        </p:nvPicPr>
        <p:blipFill>
          <a:blip r:embed="rId1"/>
          <a:stretch/>
        </p:blipFill>
        <p:spPr>
          <a:xfrm>
            <a:off x="0" y="-50760"/>
            <a:ext cx="8785080" cy="66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3924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485640" y="1638360"/>
          <a:ext cx="7632720" cy="3403440"/>
        </p:xfrm>
        <a:graphic>
          <a:graphicData uri="http://schemas.openxmlformats.org/drawingml/2006/table">
            <a:tbl>
              <a:tblPr/>
              <a:tblGrid>
                <a:gridCol w="2232000"/>
                <a:gridCol w="1297080"/>
                <a:gridCol w="1366920"/>
                <a:gridCol w="1297080"/>
                <a:gridCol w="1439640"/>
              </a:tblGrid>
              <a:tr h="129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-ность на 1.01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ислено за 1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1 полугодие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таток задолжен-ности на 1.07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елец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Мошевое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ФХ «Крапивн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Парижская Слоб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Пользователь</cp:lastModifiedBy>
  <cp:lastPrinted>2018-02-19T08:51:19Z</cp:lastPrinted>
  <dcterms:modified xsi:type="dcterms:W3CDTF">2019-07-23T10:45:41Z</dcterms:modified>
  <cp:revision>397</cp:revision>
  <dc:subject/>
  <dc:title>Слайд 1</dc:title>
</cp:coreProperties>
</file>