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039225" cy="68754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200" y="744120"/>
            <a:ext cx="48927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1649-50FF-4A33-B807-6454F7D655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952560" y="744480"/>
            <a:ext cx="4892760" cy="37227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A443-4422-4F2E-97A5-25F7ADF9D9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6C21-F8F2-4503-8EB5-5F6E4171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81327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160" y="3975480"/>
            <a:ext cx="81327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CEA-839B-4D9E-B91B-BA47F9DD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9520" y="16048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160" y="39754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9520" y="39754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01A-F84B-403B-86FB-3D488057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261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2200" y="1604880"/>
            <a:ext cx="261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2240" y="1604880"/>
            <a:ext cx="261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2160" y="3975480"/>
            <a:ext cx="261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2200" y="3975480"/>
            <a:ext cx="261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2240" y="3975480"/>
            <a:ext cx="261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C11-4FAD-47FA-97DC-0DB6FEB8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2160" y="1604880"/>
            <a:ext cx="8132760" cy="45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98B-17C1-43C7-9B74-0523F8B8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813276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A45-0EEA-4658-AA20-D7890377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396864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9520" y="1604880"/>
            <a:ext cx="396864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668-6AEE-4F14-9933-7F731FEE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BEC-53D5-42BC-B507-E934119A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2160" y="274680"/>
            <a:ext cx="813276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D84-1CE5-45A1-AA37-5B59E00E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9520" y="1604880"/>
            <a:ext cx="396864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2160" y="39754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54C-2517-4C17-87FA-8DB1BF39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396864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9520" y="16048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9520" y="39754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643B-915A-46C3-A278-6BD8D6E2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2160" y="16048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9520" y="1604880"/>
            <a:ext cx="396864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2160" y="3975480"/>
            <a:ext cx="81327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B2B-938F-4196-BC75-ABD21372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2160" y="274680"/>
            <a:ext cx="81327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2160" y="1604880"/>
            <a:ext cx="813276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2520" y="6373440"/>
            <a:ext cx="21081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360" y="6373440"/>
            <a:ext cx="28623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73440"/>
            <a:ext cx="21081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8875-0A82-4C2F-B279-EF9147455C5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136000" cy="595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не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юджет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стюковичского района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  9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сяцев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019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4" descr=""/>
          <p:cNvPicPr/>
          <p:nvPr/>
        </p:nvPicPr>
        <p:blipFill>
          <a:blip r:embed="rId1"/>
          <a:stretch/>
        </p:blipFill>
        <p:spPr>
          <a:xfrm>
            <a:off x="379440" y="270000"/>
            <a:ext cx="8658360" cy="6029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77920"/>
            <a:ext cx="82436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нение доходной части бюджета Костюковичского район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  9 месяцев  2019  год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ыс.руб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70000" y="1709640"/>
          <a:ext cx="7993080" cy="4637160"/>
        </p:xfrm>
        <a:graphic>
          <a:graphicData uri="http://schemas.openxmlformats.org/drawingml/2006/table">
            <a:tbl>
              <a:tblPr/>
              <a:tblGrid>
                <a:gridCol w="2266920"/>
                <a:gridCol w="1371600"/>
                <a:gridCol w="1371600"/>
                <a:gridCol w="1312920"/>
                <a:gridCol w="167004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 доход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довой утвержденный план на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довой уточненный план на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полнено  за  9 месяцев 2019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исполнения к  годовому уточненному пла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доходный налог с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88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88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35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ог на приб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ог на добавленную сто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96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96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15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оги на собств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62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49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9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ые 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47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47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8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пенсация расходов госуда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чие 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26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21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го до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 99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 13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 00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536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923760"/>
          <a:ext cx="8685360" cy="5856480"/>
        </p:xfrm>
        <a:graphic>
          <a:graphicData uri="http://schemas.openxmlformats.org/drawingml/2006/table">
            <a:tbl>
              <a:tblPr/>
              <a:tblGrid>
                <a:gridCol w="2470320"/>
                <a:gridCol w="1722240"/>
                <a:gridCol w="1646280"/>
                <a:gridCol w="1384560"/>
                <a:gridCol w="1461960"/>
              </a:tblGrid>
              <a:tr h="120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 раздел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твержденный план на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одовой уточненный план на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 9 месяцев 2019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исполнения к уточнен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му год. пла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щегосударствен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84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34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45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циональная 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дебная  власть, правоохранительная деятельность и обеспечение безопас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циональная 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37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37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70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храна  окружающей 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илищно-коммунальные услуги и жилищное  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3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71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07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дравоохра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40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52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27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ческая  культура, спорт, культура и  средства массовой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06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06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47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27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30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97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ая 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2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23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51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го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 59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 60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 48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130"/>
          <p:cNvSpPr/>
          <p:nvPr/>
        </p:nvSpPr>
        <p:spPr>
          <a:xfrm>
            <a:off x="176040" y="0"/>
            <a:ext cx="86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сполнение расходной части бюджета Костюковичского район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а  9 месяцев 2019 года.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тыс.руб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-17640" y="-50760"/>
            <a:ext cx="8785440" cy="6640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0720" y="277920"/>
            <a:ext cx="813600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олженность по штрафным санкциям за несвоевременный возврат бюджетных ссуд за 9 месяце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2019 года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тыс.рублей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85640" y="1638360"/>
          <a:ext cx="7632720" cy="3403440"/>
        </p:xfrm>
        <a:graphic>
          <a:graphicData uri="http://schemas.openxmlformats.org/drawingml/2006/table">
            <a:tbl>
              <a:tblPr/>
              <a:tblGrid>
                <a:gridCol w="2232000"/>
                <a:gridCol w="1297080"/>
                <a:gridCol w="1366920"/>
                <a:gridCol w="1297080"/>
                <a:gridCol w="1439640"/>
              </a:tblGrid>
              <a:tr h="1290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 должн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олжен-ность на 1.01.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числено за 9 месяц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гашено за 9 месяцев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таток задолжен-ности на 1.10.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Селецко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Демидовичски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Мошевое Агр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ФХ «Крапивн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Парижская Слобод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2160" y="274320"/>
            <a:ext cx="82422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олженность по основному долгу бюджетных ссуд   за 9 месяцев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2019 год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тыс. рублей                                                       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14360" y="1998720"/>
            <a:ext cx="81360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70000" y="1603440"/>
          <a:ext cx="8353440" cy="1739880"/>
        </p:xfrm>
        <a:graphic>
          <a:graphicData uri="http://schemas.openxmlformats.org/drawingml/2006/table">
            <a:tbl>
              <a:tblPr/>
              <a:tblGrid>
                <a:gridCol w="1512720"/>
                <a:gridCol w="1150920"/>
                <a:gridCol w="1225440"/>
                <a:gridCol w="1079640"/>
                <a:gridCol w="1185840"/>
                <a:gridCol w="1100160"/>
                <a:gridCol w="1098720"/>
              </a:tblGrid>
              <a:tr h="1100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менование должн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олженность на 1.01.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том числе просрочен-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ано  за отчетны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гашено за отчетны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олженность на 1.10. 20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том числе просроч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УП «Демидовичски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44:53Z</dcterms:created>
  <dc:creator>admin</dc:creator>
  <dc:description/>
  <dc:language>en-US</dc:language>
  <cp:lastModifiedBy>Казакова Светлана</cp:lastModifiedBy>
  <cp:lastPrinted>2018-02-19T08:51:19Z</cp:lastPrinted>
  <dcterms:modified xsi:type="dcterms:W3CDTF">2019-12-10T13:20:17Z</dcterms:modified>
  <cp:revision>400</cp:revision>
  <dc:subject/>
  <dc:title>Слайд 1</dc:title>
</cp:coreProperties>
</file>