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039225" cy="687546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52200" y="744120"/>
            <a:ext cx="48927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848DF-AE0A-494C-B163-0953F278B7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952560" y="744480"/>
            <a:ext cx="4892760" cy="37227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D0D35-F030-45D7-8845-C45770912B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C9F1-7E98-4ABA-8D32-3C5EDC1A7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2160" y="274680"/>
            <a:ext cx="813276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2160" y="1604880"/>
            <a:ext cx="813276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2160" y="3975480"/>
            <a:ext cx="813276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EE59-4CE8-4B95-87E9-1F83B9E35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2160" y="274680"/>
            <a:ext cx="813276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2160" y="1604880"/>
            <a:ext cx="396864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19520" y="1604880"/>
            <a:ext cx="396864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2160" y="3975480"/>
            <a:ext cx="396864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19520" y="3975480"/>
            <a:ext cx="396864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AB92-4526-4298-AC56-7AFE225B3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2160" y="274680"/>
            <a:ext cx="813276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2160" y="1604880"/>
            <a:ext cx="261864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2200" y="1604880"/>
            <a:ext cx="261864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2240" y="1604880"/>
            <a:ext cx="261864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2160" y="3975480"/>
            <a:ext cx="261864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2200" y="3975480"/>
            <a:ext cx="261864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2240" y="3975480"/>
            <a:ext cx="261864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B2D8-BA3B-4BAA-9B55-AE83B6CF7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2160" y="274680"/>
            <a:ext cx="813276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2160" y="1604880"/>
            <a:ext cx="8132760" cy="453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2387-EC8A-481F-BB70-404B2BE0E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2160" y="274680"/>
            <a:ext cx="813276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2160" y="1604880"/>
            <a:ext cx="8132760" cy="45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A6A0-7445-458F-A50A-CB8C8E72F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2160" y="274680"/>
            <a:ext cx="813276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2160" y="1604880"/>
            <a:ext cx="3968640" cy="45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19520" y="1604880"/>
            <a:ext cx="3968640" cy="45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9F51-EBFE-4501-963A-9DDD69E1C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2160" y="274680"/>
            <a:ext cx="813276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EC5F-FD22-4481-8A99-2ADD72F05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2160" y="274680"/>
            <a:ext cx="813276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110A-D025-4250-AE2E-D378DFDA6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2160" y="274680"/>
            <a:ext cx="813276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2160" y="1604880"/>
            <a:ext cx="396864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19520" y="1604880"/>
            <a:ext cx="3968640" cy="45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2160" y="3975480"/>
            <a:ext cx="396864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BEDB-0237-4AB2-BEA8-2D9B2052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2160" y="274680"/>
            <a:ext cx="813276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2160" y="1604880"/>
            <a:ext cx="3968640" cy="45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19520" y="1604880"/>
            <a:ext cx="396864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19520" y="3975480"/>
            <a:ext cx="396864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6374-CE42-486F-89DA-37821A677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2160" y="274680"/>
            <a:ext cx="813276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2160" y="1604880"/>
            <a:ext cx="396864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19520" y="1604880"/>
            <a:ext cx="396864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2160" y="3975480"/>
            <a:ext cx="813276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2E8D-2839-484B-86CC-61271A85D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2160" y="274680"/>
            <a:ext cx="813276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2160" y="1604880"/>
            <a:ext cx="8132760" cy="45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2520" y="6373440"/>
            <a:ext cx="21081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87360" y="6373440"/>
            <a:ext cx="28623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7120" y="6373440"/>
            <a:ext cx="21081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55702-E2C7-4E18-8D33-77936217FFEB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136000" cy="595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сполнение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юджета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стюковичского района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  2019 г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Object 4"/>
          <p:cNvGraphicFramePr/>
          <p:nvPr/>
        </p:nvGraphicFramePr>
        <p:xfrm>
          <a:off x="379440" y="270000"/>
          <a:ext cx="8658360" cy="6029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9440" y="270000"/>
                    <a:ext cx="8658360" cy="60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2720" y="277920"/>
            <a:ext cx="8243640" cy="15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сполнение доходной части бюджета Костюковичского района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а  2019 год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тыс.рубле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70000" y="1709640"/>
          <a:ext cx="7993080" cy="4684680"/>
        </p:xfrm>
        <a:graphic>
          <a:graphicData uri="http://schemas.openxmlformats.org/drawingml/2006/table">
            <a:tbl>
              <a:tblPr/>
              <a:tblGrid>
                <a:gridCol w="2266920"/>
                <a:gridCol w="1371600"/>
                <a:gridCol w="1371600"/>
                <a:gridCol w="1312920"/>
                <a:gridCol w="1670040"/>
              </a:tblGrid>
              <a:tr h="9442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именование доход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одовой утвержденный план на 2019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одовой уточненный план на 2019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сполнено  за  2019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исполнения к  годовому уточненному план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доходный налог с физических ли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 889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 176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 188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0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лог на прибы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6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9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0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лог на добавленную стоим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 964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 860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 91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1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логи на собствен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 627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57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58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ные налоговые дох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47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53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53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мпенсация расходов государ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007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012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очие неналоговые дох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8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291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406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8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сего доход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 994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 059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 254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1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685360" cy="114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52280" y="923760"/>
          <a:ext cx="8685360" cy="5880240"/>
        </p:xfrm>
        <a:graphic>
          <a:graphicData uri="http://schemas.openxmlformats.org/drawingml/2006/table">
            <a:tbl>
              <a:tblPr/>
              <a:tblGrid>
                <a:gridCol w="2470320"/>
                <a:gridCol w="1722240"/>
                <a:gridCol w="1646280"/>
                <a:gridCol w="1384560"/>
                <a:gridCol w="1461960"/>
              </a:tblGrid>
              <a:tr h="1201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именование раздел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твержденный план на 2019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одовой уточненный план на 2019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сполне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а 2019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исполнения к уточнен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ому год. план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бщегосударственная 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 846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 244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 23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циональная  оборо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удебная  власть, правоохранительная деятельность и обеспечение безопас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циональная  эконом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 374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 377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 376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храна  окружающей  сре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Жилищно-коммунальные услуги и жилищное  строитель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 373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 788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 785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дравоохран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 406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 725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 724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Физическая  культура, спорт, культура и  средства массовой информ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 069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 036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 036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 276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 194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 19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оциальная  полит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 23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 17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 158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сего расход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 594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 610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 581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Text Box 130"/>
          <p:cNvSpPr/>
          <p:nvPr/>
        </p:nvSpPr>
        <p:spPr>
          <a:xfrm>
            <a:off x="176040" y="0"/>
            <a:ext cx="868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Исполнение расходной части бюджета Костюковичского района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за  2019 год.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(тыс.руб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4"/>
          <p:cNvGraphicFramePr/>
          <p:nvPr/>
        </p:nvGraphicFramePr>
        <p:xfrm>
          <a:off x="-17640" y="-50760"/>
          <a:ext cx="8785440" cy="6640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7640" y="-50760"/>
                    <a:ext cx="8785440" cy="664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0720" y="277920"/>
            <a:ext cx="8136000" cy="114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долженность по штрафным санкциям за несвоевременный возврат бюджетных ссуд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  2019 год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тыс.рублей</a:t>
            </a: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85640" y="1638360"/>
          <a:ext cx="7632720" cy="3403440"/>
        </p:xfrm>
        <a:graphic>
          <a:graphicData uri="http://schemas.openxmlformats.org/drawingml/2006/table">
            <a:tbl>
              <a:tblPr/>
              <a:tblGrid>
                <a:gridCol w="2232000"/>
                <a:gridCol w="1297080"/>
                <a:gridCol w="1366920"/>
                <a:gridCol w="1297080"/>
                <a:gridCol w="1439640"/>
              </a:tblGrid>
              <a:tr h="12906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именование должник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адолжен-ность на 1.01.20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числено за 2019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гашено за  2019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статок задолжен-ности на 1.01.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СУП «Селецкое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СУП «Демидовичский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СУП «Мошевое Агро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ФХ «Крапивня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СУП «Парижская Слобода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2160" y="274320"/>
            <a:ext cx="8242200" cy="129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адолженность по основному долгу бюджетных ссуд   за 2019 год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тыс. рублей                                                                                    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14360" y="1998720"/>
            <a:ext cx="8136000" cy="42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70000" y="1603440"/>
          <a:ext cx="8353440" cy="1739880"/>
        </p:xfrm>
        <a:graphic>
          <a:graphicData uri="http://schemas.openxmlformats.org/drawingml/2006/table">
            <a:tbl>
              <a:tblPr/>
              <a:tblGrid>
                <a:gridCol w="1512720"/>
                <a:gridCol w="1150920"/>
                <a:gridCol w="1225440"/>
                <a:gridCol w="1079640"/>
                <a:gridCol w="1185840"/>
                <a:gridCol w="1100160"/>
                <a:gridCol w="1098720"/>
              </a:tblGrid>
              <a:tr h="1100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именование должник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адолженность на 1.01.20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 том числе просрочен-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ыдано  за отчетный пери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гашено за отчетный пери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адолженность на 1.01. 202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 том числе просрочен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СУП «Демидовичский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3:44:53Z</dcterms:created>
  <dc:creator>admin</dc:creator>
  <dc:description/>
  <dc:language>en-US</dc:language>
  <cp:lastModifiedBy>User</cp:lastModifiedBy>
  <cp:lastPrinted>2018-02-19T08:51:19Z</cp:lastPrinted>
  <dcterms:modified xsi:type="dcterms:W3CDTF">2020-03-06T09:49:16Z</dcterms:modified>
  <cp:revision>411</cp:revision>
  <dc:subject/>
  <dc:title>Слайд 1</dc:title>
</cp:coreProperties>
</file>