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039225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D71-A354-4ADB-8D00-A8B99071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81360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0720" y="3977280"/>
            <a:ext cx="81360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A63-F674-40DA-A6A3-A3FC7402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95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720" y="39772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19520" y="39772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019-5444-4ED7-A107-5640D57F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01840" y="16030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52960" y="16030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0720" y="39772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01840" y="39772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52960" y="39772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9B4-88A0-4AFB-A5A3-38C3B00E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B077-24F9-4940-9F37-3334013F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0720" y="1603080"/>
            <a:ext cx="81360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EA46-1346-486B-8322-BE45E7F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81360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A828-7BB4-41AA-A105-B35D26A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39700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19520" y="1603080"/>
            <a:ext cx="39700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793C-E67F-4DD9-9C3B-7D8A7CA1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AA2E-2C77-4B72-B856-53D4B0D1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0720" y="277920"/>
            <a:ext cx="813600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C880-C815-4C77-9B38-7D572094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19520" y="1603080"/>
            <a:ext cx="39700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0720" y="39772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DC1A-5F22-41D0-BB7F-B69A2279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0720" y="1603080"/>
            <a:ext cx="81360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BA7-F174-4BC1-8AA4-3CEBB76B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39700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195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19520" y="39772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ED86-C8F8-49C4-AE87-72E535BE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195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0720" y="3977280"/>
            <a:ext cx="81360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F4A3-58DF-46C9-9311-8FBEFCDA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81360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0720" y="3977280"/>
            <a:ext cx="81360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AA4E-D67C-4658-9A03-A970F630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195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0720" y="39772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19520" y="39772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0649-7BC1-41AF-BDDC-E20F5CEF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1840" y="16030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52960" y="16030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0720" y="39772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1840" y="39772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52960" y="3977280"/>
            <a:ext cx="261972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02F1-F871-4E63-8A5B-AF576EBD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81360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BB1-54BA-4B53-AACD-4081EBAA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39700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19520" y="1603080"/>
            <a:ext cx="39700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B28-723D-475C-8BD5-A345E501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BA3-22AF-4733-B443-B8EDF760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0720" y="277920"/>
            <a:ext cx="813600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F0E-C1F5-4A16-BFBA-130EBCEA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9520" y="1603080"/>
            <a:ext cx="39700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0720" y="39772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6A6-0AF9-4E27-AF2E-51AD6FAB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397008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95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19520" y="39772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FBA-B4E7-4A00-A4E5-7D7CDB58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7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9520" y="1603080"/>
            <a:ext cx="397008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0720" y="3977280"/>
            <a:ext cx="81360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3C2-F8FF-4DEF-BA6D-4C1BC43E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755880" y="1793880"/>
            <a:ext cx="5289120" cy="5068440"/>
            <a:chOff x="3755880" y="1793880"/>
            <a:chExt cx="5289120" cy="5068440"/>
          </a:xfrm>
        </p:grpSpPr>
        <p:sp>
          <p:nvSpPr>
            <p:cNvPr id="1" name="Rectangle 3"/>
            <p:cNvSpPr/>
            <p:nvPr/>
          </p:nvSpPr>
          <p:spPr>
            <a:xfrm>
              <a:off x="6636600" y="2172240"/>
              <a:ext cx="299520" cy="162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744960" y="1886040"/>
              <a:ext cx="7380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166960" y="2379600"/>
              <a:ext cx="9000" cy="32986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642800" y="5582880"/>
              <a:ext cx="106560" cy="1530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608680" y="2442600"/>
              <a:ext cx="9360" cy="3179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849160" y="2420280"/>
              <a:ext cx="9000" cy="140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02880" y="2889720"/>
              <a:ext cx="9360" cy="32353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25040" y="2898000"/>
              <a:ext cx="9000" cy="3372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761360" y="2976120"/>
              <a:ext cx="7560" cy="3033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87040" y="4807800"/>
              <a:ext cx="977400" cy="24804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471440" y="5715000"/>
              <a:ext cx="1562760" cy="234000"/>
            </a:xfrm>
            <a:custGeom>
              <a:avLst/>
              <a:gdLst>
                <a:gd name="textAreaLeft" fmla="*/ 0 w 1562760"/>
                <a:gd name="textAreaRight" fmla="*/ 1563120 w 156276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09240" y="5800680"/>
              <a:ext cx="1524960" cy="389880"/>
            </a:xfrm>
            <a:custGeom>
              <a:avLst/>
              <a:gdLst>
                <a:gd name="textAreaLeft" fmla="*/ 0 w 1524960"/>
                <a:gd name="textAreaRight" fmla="*/ 1525320 w 15249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537320" y="5715000"/>
              <a:ext cx="1496880" cy="14292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799160" y="2452320"/>
              <a:ext cx="159840" cy="246600"/>
            </a:xfrm>
            <a:custGeom>
              <a:avLst/>
              <a:gdLst>
                <a:gd name="textAreaLeft" fmla="*/ 0 w 159840"/>
                <a:gd name="textAreaRight" fmla="*/ 159840 w 15984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799160" y="2689560"/>
              <a:ext cx="141120" cy="18612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799160" y="2813760"/>
              <a:ext cx="141120" cy="17208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582400" y="1917720"/>
              <a:ext cx="159840" cy="281160"/>
            </a:xfrm>
            <a:custGeom>
              <a:avLst/>
              <a:gdLst>
                <a:gd name="textAreaLeft" fmla="*/ 0 w 159840"/>
                <a:gd name="textAreaRight" fmla="*/ 159840 w 15984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592120" y="2147040"/>
              <a:ext cx="131400" cy="15264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582400" y="2280600"/>
              <a:ext cx="1411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516520" y="5609880"/>
              <a:ext cx="103320" cy="153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33280" y="1793880"/>
              <a:ext cx="4084560" cy="706320"/>
            </a:xfrm>
            <a:custGeom>
              <a:avLst/>
              <a:gdLst>
                <a:gd name="textAreaLeft" fmla="*/ 0 w 4084560"/>
                <a:gd name="textAreaRight" fmla="*/ 4084920 w 408456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02960" y="6004800"/>
              <a:ext cx="131760" cy="15120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28840" y="6162120"/>
              <a:ext cx="141120" cy="17208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764880" y="6162120"/>
              <a:ext cx="113040" cy="1429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34000" y="6108120"/>
              <a:ext cx="2165400" cy="61884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755880" y="6101640"/>
              <a:ext cx="2356560" cy="458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29320" y="6143400"/>
              <a:ext cx="2269080" cy="3164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872680" y="6028560"/>
              <a:ext cx="140760" cy="152640"/>
            </a:xfrm>
            <a:custGeom>
              <a:avLst/>
              <a:gdLst>
                <a:gd name="textAreaLeft" fmla="*/ 0 w 140760"/>
                <a:gd name="textAreaRight" fmla="*/ 140760 w 140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507520" y="5734080"/>
              <a:ext cx="112680" cy="17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649200" y="2821680"/>
              <a:ext cx="271440" cy="404064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727680" y="2458800"/>
              <a:ext cx="119160" cy="381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21120" y="2773800"/>
              <a:ext cx="31500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755760" y="2433240"/>
              <a:ext cx="395640" cy="250812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2508120"/>
                <a:gd name="textAreaBottom" fmla="*/ 2508480 h 250812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540840" y="2261520"/>
              <a:ext cx="530280" cy="21960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0720" y="1603080"/>
            <a:ext cx="81360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0360" y="6296040"/>
            <a:ext cx="21099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087360" y="6296040"/>
            <a:ext cx="2862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477120" y="6296040"/>
            <a:ext cx="2109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57A1-9AB1-4346-BA2D-16CB7FEF967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755880" y="1793880"/>
            <a:ext cx="5289120" cy="5068440"/>
            <a:chOff x="3755880" y="1793880"/>
            <a:chExt cx="5289120" cy="5068440"/>
          </a:xfrm>
        </p:grpSpPr>
        <p:sp>
          <p:nvSpPr>
            <p:cNvPr id="77" name="Rectangle 3"/>
            <p:cNvSpPr/>
            <p:nvPr/>
          </p:nvSpPr>
          <p:spPr>
            <a:xfrm>
              <a:off x="6636600" y="2172240"/>
              <a:ext cx="299520" cy="162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744960" y="1886040"/>
              <a:ext cx="7380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166960" y="2379600"/>
              <a:ext cx="9000" cy="32986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642800" y="5582880"/>
              <a:ext cx="106560" cy="1530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608680" y="2442600"/>
              <a:ext cx="9360" cy="31795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849160" y="2420280"/>
              <a:ext cx="9000" cy="1401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02880" y="2889720"/>
              <a:ext cx="9360" cy="32353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25040" y="2898000"/>
              <a:ext cx="9000" cy="3372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761360" y="2976120"/>
              <a:ext cx="7560" cy="3033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287040" y="4807800"/>
              <a:ext cx="977400" cy="24804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471440" y="5715000"/>
              <a:ext cx="1562760" cy="234000"/>
            </a:xfrm>
            <a:custGeom>
              <a:avLst/>
              <a:gdLst>
                <a:gd name="textAreaLeft" fmla="*/ 0 w 1562760"/>
                <a:gd name="textAreaRight" fmla="*/ 1563120 w 156276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09240" y="5800680"/>
              <a:ext cx="1524960" cy="389880"/>
            </a:xfrm>
            <a:custGeom>
              <a:avLst/>
              <a:gdLst>
                <a:gd name="textAreaLeft" fmla="*/ 0 w 1524960"/>
                <a:gd name="textAreaRight" fmla="*/ 1525320 w 15249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537320" y="5715000"/>
              <a:ext cx="1496880" cy="14292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799160" y="2452320"/>
              <a:ext cx="159840" cy="246600"/>
            </a:xfrm>
            <a:custGeom>
              <a:avLst/>
              <a:gdLst>
                <a:gd name="textAreaLeft" fmla="*/ 0 w 159840"/>
                <a:gd name="textAreaRight" fmla="*/ 159840 w 15984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799160" y="2689560"/>
              <a:ext cx="141120" cy="18612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799160" y="2813760"/>
              <a:ext cx="141120" cy="17208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582400" y="1917720"/>
              <a:ext cx="159840" cy="281160"/>
            </a:xfrm>
            <a:custGeom>
              <a:avLst/>
              <a:gdLst>
                <a:gd name="textAreaLeft" fmla="*/ 0 w 159840"/>
                <a:gd name="textAreaRight" fmla="*/ 159840 w 15984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592120" y="2147040"/>
              <a:ext cx="131400" cy="152640"/>
            </a:xfrm>
            <a:custGeom>
              <a:avLst/>
              <a:gdLst>
                <a:gd name="textAreaLeft" fmla="*/ 0 w 131400"/>
                <a:gd name="textAreaRight" fmla="*/ 131400 w 1314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582400" y="2280600"/>
              <a:ext cx="1411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516520" y="5609880"/>
              <a:ext cx="103320" cy="153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33280" y="1793880"/>
              <a:ext cx="4084560" cy="706320"/>
            </a:xfrm>
            <a:custGeom>
              <a:avLst/>
              <a:gdLst>
                <a:gd name="textAreaLeft" fmla="*/ 0 w 4084560"/>
                <a:gd name="textAreaRight" fmla="*/ 4084920 w 408456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02960" y="6004800"/>
              <a:ext cx="131760" cy="151200"/>
            </a:xfrm>
            <a:custGeom>
              <a:avLst/>
              <a:gdLst>
                <a:gd name="textAreaLeft" fmla="*/ 0 w 131760"/>
                <a:gd name="textAreaRight" fmla="*/ 131760 w 13176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28840" y="6162120"/>
              <a:ext cx="141120" cy="17208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764880" y="6162120"/>
              <a:ext cx="113040" cy="1429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34000" y="6108120"/>
              <a:ext cx="2165400" cy="61884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755880" y="6101640"/>
              <a:ext cx="2356560" cy="4582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29320" y="6143400"/>
              <a:ext cx="2269080" cy="3164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872680" y="6028560"/>
              <a:ext cx="140760" cy="152640"/>
            </a:xfrm>
            <a:custGeom>
              <a:avLst/>
              <a:gdLst>
                <a:gd name="textAreaLeft" fmla="*/ 0 w 140760"/>
                <a:gd name="textAreaRight" fmla="*/ 140760 w 140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507520" y="5734080"/>
              <a:ext cx="112680" cy="17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649200" y="2821680"/>
              <a:ext cx="271440" cy="404064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727680" y="2458800"/>
              <a:ext cx="119160" cy="381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21120" y="2773800"/>
              <a:ext cx="31500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755760" y="2433240"/>
              <a:ext cx="395640" cy="250812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2508120"/>
                <a:gd name="textAreaBottom" fmla="*/ 2508480 h 250812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540840" y="2261520"/>
              <a:ext cx="530280" cy="21960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0720" y="1603080"/>
            <a:ext cx="81360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0360" y="6296040"/>
            <a:ext cx="21099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087360" y="6296040"/>
            <a:ext cx="2862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477120" y="6296040"/>
            <a:ext cx="2109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927E-2B06-4125-B5B9-FD311306B0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0720" y="0"/>
            <a:ext cx="8136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bd71"/>
                </a:solidFill>
                <a:latin typeface="Arial"/>
              </a:rPr>
              <a:t>Структура  доходов  консолидированного  бюджета  района  </a:t>
            </a:r>
            <a:br>
              <a:rPr sz="1600"/>
            </a:br>
            <a:r>
              <a:rPr b="1" lang="ru-RU" sz="1600" spc="-1" strike="noStrike">
                <a:solidFill>
                  <a:srgbClr val="dbbd71"/>
                </a:solidFill>
                <a:latin typeface="Arial"/>
              </a:rPr>
              <a:t>в  2019-2020  годах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70000" y="1062000"/>
          <a:ext cx="8569080" cy="5497560"/>
        </p:xfrm>
        <a:graphic>
          <a:graphicData uri="http://schemas.openxmlformats.org/drawingml/2006/table">
            <a:tbl>
              <a:tblPr/>
              <a:tblGrid>
                <a:gridCol w="3024000"/>
                <a:gridCol w="1336680"/>
                <a:gridCol w="1471680"/>
                <a:gridCol w="1368360"/>
                <a:gridCol w="1368360"/>
              </a:tblGrid>
              <a:tr h="57636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мое исполнение за 2019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ект на 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б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. вес в объем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ходов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б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. вес в  объем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ходов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ходы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всего: в т.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 74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6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логовые  доходы всего, в т.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оходный 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лог на прибы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логи на собствен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чие налоговые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70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 13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7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61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37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9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 79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53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0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налоговые доходы всего, в т.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мпенсация расходов государ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чие неналоговые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16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176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09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09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возмездные  поступления всего, в т.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т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 2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 993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 547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 95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0720" y="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bd71"/>
                </a:solidFill>
                <a:latin typeface="Arial"/>
              </a:rPr>
              <a:t>Структура  расходов  консолидированного  бюджета  района  </a:t>
            </a:r>
            <a:br>
              <a:rPr sz="1600"/>
            </a:br>
            <a:r>
              <a:rPr b="1" lang="ru-RU" sz="1600" spc="-1" strike="noStrike">
                <a:solidFill>
                  <a:srgbClr val="dbbd71"/>
                </a:solidFill>
                <a:latin typeface="Arial"/>
              </a:rPr>
              <a:t>в  2019-2020  годах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8360" y="901800"/>
          <a:ext cx="8640720" cy="5719680"/>
        </p:xfrm>
        <a:graphic>
          <a:graphicData uri="http://schemas.openxmlformats.org/drawingml/2006/table">
            <a:tbl>
              <a:tblPr/>
              <a:tblGrid>
                <a:gridCol w="2905200"/>
                <a:gridCol w="1454040"/>
                <a:gridCol w="1522440"/>
                <a:gridCol w="1230480"/>
                <a:gridCol w="1528560"/>
              </a:tblGrid>
              <a:tr h="5180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мое  исполнение  за 2019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ект  на 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ыс. руб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Удельный  вес  в  расходах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ыс. руб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Удельный  вес  в расходах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ГО, в  том  числ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 79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74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егосударствен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32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06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дебная власть,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423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56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храна окружающей сре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илищно-коммунальные  услуги и  жилищное  строитель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77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32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дравоохран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74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49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ческая  культура, спорт, культура  и  средства  массовой информ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03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26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 21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 51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ная  поли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20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46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фицит бюджета (+) дефицит (-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 67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bbd71"/>
                </a:solidFill>
                <a:latin typeface="Arial"/>
                <a:ea typeface="Times New Roman"/>
              </a:rPr>
              <a:t>Структура</a:t>
            </a:r>
            <a:r>
              <a:rPr b="1" lang="ru-RU" sz="2000" spc="-1" strike="noStrike">
                <a:solidFill>
                  <a:srgbClr val="dbbd71"/>
                </a:solidFill>
                <a:latin typeface="Arial"/>
                <a:ea typeface="Times New Roman"/>
              </a:rPr>
              <a:t>  доходов  консолидированного бюджета  района на 2020 год 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Таблица 3" descr=""/>
          <p:cNvPicPr/>
          <p:nvPr/>
        </p:nvPicPr>
        <p:blipFill>
          <a:blip r:embed="rId1"/>
          <a:stretch/>
        </p:blipFill>
        <p:spPr>
          <a:xfrm>
            <a:off x="414360" y="1422360"/>
            <a:ext cx="8237520" cy="464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bd71"/>
                </a:solidFill>
                <a:latin typeface="Arial"/>
              </a:rPr>
              <a:t>Структура расходов консолидированного бюджета района </a:t>
            </a:r>
            <a:br>
              <a:rPr sz="1800"/>
            </a:br>
            <a:r>
              <a:rPr b="1" lang="ru-RU" sz="1800" spc="-1" strike="noStrike">
                <a:solidFill>
                  <a:srgbClr val="dbbd71"/>
                </a:solidFill>
                <a:latin typeface="Arial"/>
              </a:rPr>
              <a:t>на 2020 год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Таблица 3" descr=""/>
          <p:cNvPicPr/>
          <p:nvPr/>
        </p:nvPicPr>
        <p:blipFill>
          <a:blip r:embed="rId1"/>
          <a:stretch/>
        </p:blipFill>
        <p:spPr>
          <a:xfrm>
            <a:off x="147600" y="1442880"/>
            <a:ext cx="8597880" cy="5375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44:53Z</dcterms:created>
  <dc:creator>admin</dc:creator>
  <dc:description/>
  <dc:language>en-US</dc:language>
  <cp:lastModifiedBy>User</cp:lastModifiedBy>
  <dcterms:modified xsi:type="dcterms:W3CDTF">2020-03-06T09:48:47Z</dcterms:modified>
  <cp:revision>192</cp:revision>
  <dc:subject/>
  <dc:title>Слайд 1</dc:title>
</cp:coreProperties>
</file>